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F05-0E19-41E9-BE1B-F3C7CD47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FF5-E9CC-4C88-B614-E200332D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249-B572-4DCD-94A2-DC52E1A6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D74-1D6C-4A66-A2AA-16CC2E40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7627-DA8A-4FF2-889F-D00A933D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766F-182A-4C40-8716-C740A69F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53F9-CBF4-47F8-9610-720E863A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691D-74F0-4565-8689-CC98BA85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F534-2F37-425D-80E5-1E60CCAB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2F76-7558-4C09-9A31-F0ACC2CF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143F-4840-479C-B4F1-F2F6C3DD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199-7C72-437F-940A-4BBA4677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1586-7CF6-4E2B-9AB8-0635289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5FE5-4D21-417C-9173-356B0F4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C1A5-FCB9-4B4D-9DEE-A2094B15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2D76-7A14-4A73-93FC-FCCEA3B3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79A8-42D5-4B7C-8069-0D8DAD8D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0AB3-3C7B-46FB-B43F-3333D570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7812-34A9-4FBE-820D-08B8F053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C1DA2-E198-4BCE-969D-CA4B739B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B84F-B2C7-4589-B9A8-63CA798B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E511-B6CC-4E08-A9EE-B9D9758A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31D-F5B2-4E9D-8C12-97E6BF8D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94AF-35DA-4BBA-90DA-0162390C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8E6B-3B1E-47FB-A9FD-38F27D5E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29FF-0610-43D5-AF4A-B25DDC62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842E-0F2A-45AF-B8D9-10C3C22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D3EA-17E5-4AA9-A9F8-AD89FA6B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8A06-DF88-4A07-8D9A-2FAD6EF8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4F56-338E-4E5E-A0B5-FD06BB6C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E6570-0174-4E96-BE88-AC3BF48B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BC36-21BC-44EC-A453-90DF24D5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07A3D-21F0-4D00-8C1A-A47BD6C8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67F-7C4F-4389-A41A-6599D90F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3F12-EA33-44A1-BD26-A2B2F130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9D744-6E95-4D22-BA02-404DA13A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FF7AA-9AAC-489F-8B65-50D0A463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BC13B-B110-46E6-80F3-878D7A9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785E-58AA-4679-A49E-AC82E979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B50B-A30C-4A47-A7D3-C66925D0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11C7-9958-481E-A3EE-5DCC9252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499F-6ADE-444E-A780-F4B2F901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E0064-B34C-4C92-8FC5-6BD4EF96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55DA2-9587-4E23-B266-52D757E4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61A-D80A-413A-B32B-144BDF6B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F9911-EE59-4304-A163-7417BAEA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41D1B-D49D-425E-A4BB-7A28AA6B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A5210-4B5A-4D57-8597-ECAEEE10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1504-237B-4D2C-920C-814C073C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E25C0-4A3A-4ED8-96C4-A339052E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0BE24-6A1D-4B27-8B75-3CFC4D78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B55B4-1B46-4D98-9278-154685AB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CC084-F773-4BCA-BC64-B3EF9C45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CA4D3-9DDD-406F-B217-40D4A6C0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486F7-4AED-43D2-8C78-51E760F5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D68-3D1B-4C34-B0D4-C8E10FA9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0A5D3-C4EC-4715-B052-E3194A99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856BC-FAC7-482A-84B2-3D3C5B5D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D2A68-7737-431D-9DC2-A0E013F7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DCA92-DD60-4E8D-AAA4-65E64C7E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2BF65-FD92-4CEC-9215-F77122D8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9939D-9A25-4E0A-AF0C-E8085EB6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A2D6C-0AA4-4AF9-A37A-24CBA36B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27A63-C437-4CEA-A2C0-47D9B276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D4B93-13D4-49C8-812B-DED49CF2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E9253-1F22-4086-BE07-66B7DEFB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A6B-D5B0-4C04-9953-31714AD7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18305-F6B4-483E-BC36-22A24CDA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432C5-E46B-47BF-A04B-E47E2A8F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073E8-A92A-446C-8565-A9A0CA8E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F5E45-088D-4850-BF5C-4E858FCB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96430-77A6-4064-9505-B39A2C1D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C70A7-F513-4A98-8D2D-1A112E6E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24FD7-9ADD-4663-85D1-9583E91B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8B609-EA3E-44ED-A349-C84F67EC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66584-BB1E-468D-8FBB-E1A88074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E0BAA-D828-4225-9782-A9A3E79E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2D1-DC61-4322-A7CF-C0D2EEE3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379B1-248F-4884-A7C3-328BBC8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B14E9-04B9-422D-B356-3C28EAC4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CE353-A17A-40AC-AB48-8EC83D51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0CC92-F090-483B-8A24-0BDAAB9A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D6DF6-D075-4609-B56C-A14ABB76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459-EBD0-4451-B842-CE30A3D0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3AE2-C03D-4844-B2A4-2151D0C2D3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5AAA-F31D-4BE2-AC04-A8A003C86A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5CC1-8510-486A-A714-80928FBC72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CBC1-95CD-433E-AC60-B9780F1D31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4B3E-6D40-4BE3-BE99-0683A603CF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4B1D-56C4-4D28-97F8-CE0DA5C3B1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9F7C-032E-40E7-A185-EF57243EDA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2920" y="3068280"/>
            <a:ext cx="482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572314"/>
                </a:solidFill>
                <a:uFillTx/>
                <a:latin typeface="Corbel"/>
              </a:rPr>
              <a:t>Автор</a:t>
            </a: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: </a:t>
            </a:r>
            <a:br>
              <a:rPr sz="2200"/>
            </a:br>
            <a:r>
              <a:rPr b="0" i="1" lang="ru-RU" sz="2200" spc="-1" strike="noStrike">
                <a:solidFill>
                  <a:srgbClr val="572314"/>
                </a:solidFill>
                <a:latin typeface="Corbel"/>
              </a:rPr>
              <a:t>Кустова Анна Александровна</a:t>
            </a: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,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учитель литературы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Железногорск, МБОУ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Гимназия 91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им. М.В.Ломоносова 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1555920" y="557280"/>
            <a:ext cx="74991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едставление учебного проекта «Коты и кошки в литературе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C:\Users\про\Desktop\про кошек\kot_bajun.jpg"/>
          <p:cNvPicPr/>
          <p:nvPr/>
        </p:nvPicPr>
        <p:blipFill>
          <a:blip r:embed="rId1"/>
          <a:stretch/>
        </p:blipFill>
        <p:spPr>
          <a:xfrm>
            <a:off x="5162400" y="3657600"/>
            <a:ext cx="3822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34960" y="25992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Регулятивные УУД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мостоятельно формулировать цели; совместно с учителем составлять план решения проблемы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я по плану, сверять свои действия с целью и, при необходимости, исправлять ошибки с помощью учител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3" descr="C:\Users\про\Desktop\котовасия\картинки2\cat021.gif"/>
          <p:cNvPicPr/>
          <p:nvPr/>
        </p:nvPicPr>
        <p:blipFill>
          <a:blip r:embed="rId1"/>
          <a:stretch/>
        </p:blipFill>
        <p:spPr>
          <a:xfrm>
            <a:off x="5148360" y="4095720"/>
            <a:ext cx="3600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434960" y="260280"/>
            <a:ext cx="7499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Познавательные УУД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иентироваться в своей системе знаний: самостоятельно предполагать, какая информация нужна для решения учебной задачи 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бирать необходимые для решения учебной задачи источники информации 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бывать новые знания: извлекать информацию, представленную в разных формах (текст, таблица, схема, иллюстрация и др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34960" y="189000"/>
            <a:ext cx="749952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ерабатывать полученную информацию: сравнивать и группировать факты и явления; определять причины явлений, событ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лать выводы на основе обобщения знан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образовывать информацию из одной формы в другую: составлять  цитатный план, составлять таблицу, схему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ботать с понятиями: жанр, пословица, поговорка, фразеологизм, примета, крылатое выражение, сказка, рассказ, герой, авторская позиц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ть интерпретировать текс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34960" y="404640"/>
            <a:ext cx="7499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Коммуникативные УУД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носить свою позицию до других: оформлять свои мысли в устной и письменной речи с учётом своих учебных и жизненных речевых ситуаци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сказывать свою точку зрения и пытаться её обосновать, приводя аргумент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лушать других, пытаться принимать другую точку зрения, быть готовым изменить свою точку зр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3" descr="C:\Users\про\Desktop\котовасия\картинки2\cat035.gif"/>
          <p:cNvPicPr/>
          <p:nvPr/>
        </p:nvPicPr>
        <p:blipFill>
          <a:blip r:embed="rId1"/>
          <a:stretch/>
        </p:blipFill>
        <p:spPr>
          <a:xfrm>
            <a:off x="6875640" y="4437000"/>
            <a:ext cx="19872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зультаты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альманаха – сборника творческих работ учащихся (История, рассказанная кошкой (котом), Памятник коту (кошки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з о литературных котах и кошках учащимся начальной школ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6" descr="C:\Users\про\Desktop\котовасия\картинки2\cat019.gif"/>
          <p:cNvPicPr/>
          <p:nvPr/>
        </p:nvPicPr>
        <p:blipFill>
          <a:blip r:embed="rId1"/>
          <a:stretch/>
        </p:blipFill>
        <p:spPr>
          <a:xfrm>
            <a:off x="3492360" y="4724280"/>
            <a:ext cx="27370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836280"/>
            <a:ext cx="46497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festival.1september.ru/articles/634984/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catsrepublic.ru/kotote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festival.1september.ru/articles/571440/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festival.1september.ru/articles/567706/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ловицы, поговорки о котах и кошках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ttp://mau.ru/read/word/russian.ph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4" descr="C:\Users\про\Desktop\про кошек\cat034.png"/>
          <p:cNvPicPr/>
          <p:nvPr/>
        </p:nvPicPr>
        <p:blipFill>
          <a:blip r:embed="rId1"/>
          <a:stretch/>
        </p:blipFill>
        <p:spPr>
          <a:xfrm>
            <a:off x="5724360" y="2421000"/>
            <a:ext cx="3589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Метод проектов даёт большие возможности для учителя и ученика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особствует организации самостоятельной работы учащихс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особствует зарождению интереса к последующим делам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буждает детей добывать новые знания, использовать имеющийся опыт при решении конкретных проблем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школьникам почувствовать, насколько значимы приобретённые ими знания для жизн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189000"/>
            <a:ext cx="749952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ккумулирует все знания, умения и навыки учащихс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зывает большой личностный интерес у детей и выводит их на принципиально новую ступень познания и 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формировать исследовательские навыки ученик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формировать навыки групповой деятельност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формировать навыки самообразования и самоконтрол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Характеристика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116000" y="836280"/>
            <a:ext cx="781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характеру доминирующей дея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поисковый, творческ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предметно-содержательной обла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межпредметный (русский язык, информатика, биология, изо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характеру контактов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среди одноклассников;</a:t>
            </a: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количеству участников проект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индивидуальный, группов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продолжи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краткосрочный (11 часов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71640" y="188640"/>
            <a:ext cx="5976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ключение подростка в ситуацию осуществляется через  создание проблемной ситу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Достижение цели проект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уществляется через анализ произведений, создание презентаций, написания сочинения, создания иллюстрированного альбома историй от лица кота (кошки), памятников коту, кошк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C:\Users\про\Desktop\котовасия\картинки2\cat016.gif"/>
          <p:cNvPicPr/>
          <p:nvPr/>
        </p:nvPicPr>
        <p:blipFill>
          <a:blip r:embed="rId1"/>
          <a:stretch/>
        </p:blipFill>
        <p:spPr>
          <a:xfrm>
            <a:off x="6724800" y="4606920"/>
            <a:ext cx="2419200" cy="2251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Users\про\Desktop\котовасия\картинки2\cat017.gif"/>
          <p:cNvPicPr/>
          <p:nvPr/>
        </p:nvPicPr>
        <p:blipFill>
          <a:blip r:embed="rId2"/>
          <a:stretch/>
        </p:blipFill>
        <p:spPr>
          <a:xfrm>
            <a:off x="6989760" y="260280"/>
            <a:ext cx="1976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Основополагающий вопрос проекта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87280" y="980640"/>
            <a:ext cx="6840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2223"/>
                </a:solidFill>
                <a:latin typeface="Corbel"/>
              </a:rPr>
              <a:t>Почему коты и кошки становятся частыми героями произведени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Заголовок 1"/>
          <p:cNvSpPr/>
          <p:nvPr/>
        </p:nvSpPr>
        <p:spPr>
          <a:xfrm>
            <a:off x="1042920" y="242100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блемные вопросы проекта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одержимое 2"/>
          <p:cNvSpPr/>
          <p:nvPr/>
        </p:nvSpPr>
        <p:spPr>
          <a:xfrm>
            <a:off x="1619280" y="3645000"/>
            <a:ext cx="7211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ми качествами наделяются коты и кошки в произвед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ва художественная роль образа кота, кошки в произвед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C:\Users\про\Desktop\котовасия\картинки2\mouse063.gif"/>
          <p:cNvPicPr/>
          <p:nvPr/>
        </p:nvPicPr>
        <p:blipFill>
          <a:blip r:embed="rId1"/>
          <a:stretch/>
        </p:blipFill>
        <p:spPr>
          <a:xfrm>
            <a:off x="1042920" y="3645000"/>
            <a:ext cx="627120" cy="823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Users\про\Desktop\котовасия\картинки2\mouse063.gif"/>
          <p:cNvPicPr/>
          <p:nvPr/>
        </p:nvPicPr>
        <p:blipFill>
          <a:blip r:embed="rId2"/>
          <a:stretch/>
        </p:blipFill>
        <p:spPr>
          <a:xfrm>
            <a:off x="1042920" y="5373720"/>
            <a:ext cx="6271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чебные темы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052280"/>
            <a:ext cx="58010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1.Образы котов и кошек в фольклоре (2 час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словицы, поговорки, приметы, связанные с котами и кошкам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казки о котах и кошках («Кот, петух и лиса», «Кот и Лиса», «Поди туда – не знаю куда, принеси то – не знаю что»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2.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Образы котов и кошек в литературных сказках (2 час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(Ш.Перро «Кот в сапогах», братья Гримм «Бременские музыканты»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3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. Иллюстрации к произведениям о котах и кошках (1 час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едставление презент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5" descr="C:\Users\про\Desktop\котовасия\картинки2\cat186.gif"/>
          <p:cNvPicPr/>
          <p:nvPr/>
        </p:nvPicPr>
        <p:blipFill>
          <a:blip r:embed="rId1"/>
          <a:stretch/>
        </p:blipFill>
        <p:spPr>
          <a:xfrm>
            <a:off x="6459480" y="1557360"/>
            <a:ext cx="2684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87280" y="189000"/>
            <a:ext cx="75614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4. 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Образ кота в рассказе К.Паустовского «Кот-ворюга» (2 час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казки про животных и рассказы о животных: сходства и отлич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чему Кот-ворюга стал Котом-милиционером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5. 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Мой любимец (Мультипликационные коты и кошки) (1 час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едставление презент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6. История, рассказанная кошкой (котом) (2 часа) – урок развития реч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7. Памятник коту (кошке)  (1 час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        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Всего:  11 час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" descr="C:\Users\про\Desktop\котовасия\картинки2\cat020.gif"/>
          <p:cNvPicPr/>
          <p:nvPr/>
        </p:nvPicPr>
        <p:blipFill>
          <a:blip r:embed="rId1"/>
          <a:stretch/>
        </p:blipFill>
        <p:spPr>
          <a:xfrm>
            <a:off x="0" y="4178160"/>
            <a:ext cx="2340000" cy="2679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C:\Users\про\Desktop\котовасия\картинки2\cat022.gif"/>
          <p:cNvPicPr/>
          <p:nvPr/>
        </p:nvPicPr>
        <p:blipFill>
          <a:blip r:embed="rId2"/>
          <a:stretch/>
        </p:blipFill>
        <p:spPr>
          <a:xfrm>
            <a:off x="6405480" y="4076640"/>
            <a:ext cx="27385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71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Данный учебный проект способствует формированию и развитию УУД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Личностные УУД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: познавательный интерес к чтению, способность к самооценке на основе критериев успешности учебной деятельности; ориентация в системе моральных норм и ценностей, их присвоение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3:37:33Z</dcterms:created>
  <dc:creator>про</dc:creator>
  <dc:description/>
  <dc:language>en-US</dc:language>
  <cp:lastModifiedBy>pedagog</cp:lastModifiedBy>
  <dcterms:modified xsi:type="dcterms:W3CDTF">2014-05-22T07:31:18Z</dcterms:modified>
  <cp:revision>167</cp:revision>
  <dc:subject/>
  <dc:title>Диагностические аспекты предметной одарённости (русский язык, литература)</dc:title>
</cp:coreProperties>
</file>